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B64-4B2E-4E49-8F7C-4A16BE55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2A4A-B1A2-4E3E-BCB0-CB0C16DC3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60600" cy="31957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481-B742-4D65-B3C4-51C9F9ED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2F7-258E-48D5-A1CD-A3690FC8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496-A1FE-4BDC-B16C-8E2E6768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4A5-AD39-40B8-B450-33B3CAB0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8C5-BBE0-4FC4-BCB0-2CF07AE2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D94C-8631-42E3-9119-35140AF0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E552-5112-4FB6-9635-B9E0588D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EC73-B944-44B3-BDEA-34A6CE88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404-D74E-4624-8009-1649B5F4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7BE2-741C-47B8-91F9-A6725F8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B01-491C-4E7F-B0D2-774F526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6FC-6E8F-45C1-BEA3-EAF851FD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D2B-AE49-45A9-870B-F2628E9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8CAD-68AF-4EBE-B002-CB4CB5A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23A-3633-43F5-B59B-4A1E8DE2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C985-E708-4156-BFD0-41A88F13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CD0B-85A2-4127-9601-497535AB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FBA-EFEF-4A50-999E-16ABFF9B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7CD-2E68-45D2-A530-34B7E58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A93-F535-47C0-B04C-F41E065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A4C-EF82-44A8-BC6F-2BD705F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03C-5141-4B7A-A931-14A6F7D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86B-FC53-43AE-B94A-D9096C5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916-372A-49AB-90B2-978D477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C8DB-3677-4B2A-BF43-47FFA0582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73D-7C6D-476B-9EF3-81BC0598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Verdana"/>
              </a:rPr>
              <a:t>Акутни коронарни синдром</a:t>
            </a:r>
            <a:br>
              <a:rPr sz="4000"/>
            </a:br>
            <a:br>
              <a:rPr sz="16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ute coronary syndr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4952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фесор доктор Владимир Здравкови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сновне струковне студ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терна медицина са нег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012007"/>
          <p:cNvPicPr/>
          <p:nvPr/>
        </p:nvPicPr>
        <p:blipFill>
          <a:blip r:embed="rId1"/>
          <a:stretch/>
        </p:blipFill>
        <p:spPr>
          <a:xfrm>
            <a:off x="838080" y="1676520"/>
            <a:ext cx="7772400" cy="4419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523880" y="914400"/>
            <a:ext cx="22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us Pla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1960" y="9144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cated Le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мпликовани атерогени пл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582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Настаје процесом некрозе унутар фиброзног плака</a:t>
            </a: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Последице су</a:t>
            </a: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ерозија пла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руптура пла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крварења у пл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калцификације делова фиброзног плака</a:t>
            </a:r>
            <a:r>
              <a:rPr b="0" lang="en-US" sz="2600" spc="-1" strike="noStrike">
                <a:solidFill>
                  <a:srgbClr val="000000"/>
                </a:solidFill>
                <a:latin typeface="Dutch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Dutch"/>
              </a:rPr>
              <a:t>појава анеуризме и руптуре крвног су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94520" y="83808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icated Le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73392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1905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табилан, хроничан клинички облик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120" y="3809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естабилан клинички облик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F6"/>
          <p:cNvPicPr/>
          <p:nvPr/>
        </p:nvPicPr>
        <p:blipFill>
          <a:blip r:embed="rId1"/>
          <a:srcRect l="0" t="24491" r="0" b="48983"/>
          <a:stretch/>
        </p:blipFill>
        <p:spPr>
          <a:xfrm>
            <a:off x="685800" y="2286000"/>
            <a:ext cx="7848720" cy="1486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F6"/>
          <p:cNvPicPr/>
          <p:nvPr/>
        </p:nvPicPr>
        <p:blipFill>
          <a:blip r:embed="rId2"/>
          <a:srcRect l="0" t="48992" r="0" b="0"/>
          <a:stretch/>
        </p:blipFill>
        <p:spPr>
          <a:xfrm>
            <a:off x="685800" y="4267080"/>
            <a:ext cx="784872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410080" y="3809880"/>
            <a:ext cx="3505320" cy="1937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омбоза на терену атерогеног пла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мпликов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коронарни 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486400" y="2133720"/>
            <a:ext cx="3352680" cy="157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терогени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омпликов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билна анг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304920" y="1981080"/>
          <a:ext cx="503856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503856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2590920" y="1981080"/>
            <a:ext cx="114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733920" y="56386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04920" y="838080"/>
            <a:ext cx="8001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омбоза на терену атерогеног пла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оклузивни тромб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клузивни тром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кутни коронарни синдр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581280" cy="307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42900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904760"/>
            <a:ext cx="7891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зив за клинички синдром којим означавам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гло настали поремећај крвотока у коронарним артеријама са последичном исхемијом/некрозо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дговарајућег дела миокар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ол у грудима је основни симптом који иницира постављање радне дијагнозе, али класификација и даљи дијагностички поступци засновани су на електрокардиограму и кардиоспецифичним ензим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Акутни коронарни синдро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3408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Дијагноза акутног коронарног синдр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итеријуми Светске здравствене орг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c0000"/>
                </a:solidFill>
                <a:latin typeface="Verdana"/>
              </a:rPr>
              <a:t>постојање бола у грудима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волутивне промене у ЕКГ-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раст серумских кардијалних марке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јагноза се поставља са великом вероватноћом ако су присутна 2 од 3 наведена критерију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нгинозни бол је основни симптом који иницира постављање радне дијагноз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3" descr="15-heart-symptoms-s2-heart-disease-warning-sign"/>
          <p:cNvPicPr/>
          <p:nvPr/>
        </p:nvPicPr>
        <p:blipFill>
          <a:blip r:embed="rId1"/>
          <a:stretch/>
        </p:blipFill>
        <p:spPr>
          <a:xfrm>
            <a:off x="228600" y="1981080"/>
            <a:ext cx="4695840" cy="319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15-heart-symptoms-s16-12-heart-symptoms-never-to-ignore-summary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5-heart-symptoms-s5-man-with-chest-pain"/>
          <p:cNvPicPr/>
          <p:nvPr/>
        </p:nvPicPr>
        <p:blipFill>
          <a:blip r:embed="rId1"/>
          <a:stretch/>
        </p:blipFill>
        <p:spPr>
          <a:xfrm>
            <a:off x="304920" y="1981080"/>
            <a:ext cx="4695840" cy="319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15-heart-symptoms-s10-man-suffers-body-pains"/>
          <p:cNvPicPr/>
          <p:nvPr/>
        </p:nvPicPr>
        <p:blipFill>
          <a:blip r:embed="rId2"/>
          <a:stretch/>
        </p:blipFill>
        <p:spPr>
          <a:xfrm>
            <a:off x="4448160" y="609480"/>
            <a:ext cx="4695840" cy="3191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мптоматолог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Ангинозни бол се типично локализује отвореном ша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опагира се у рамена, леђа, в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Глобални терет од кардиоваскуларних боле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2002</a:t>
            </a:r>
            <a:r>
              <a:rPr b="0" lang="en-GB" sz="2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ВБ су патриципирале у трећини укупне смрт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200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мртност од КВБ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у САД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201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т о КВБ као болестима мушкараца сруш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олести срца су водећи узрок смртности жена у свим развијеним земљ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Морталитет због КВБ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е процењује 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0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1"/>
          <a:srcRect l="18679" t="22290" r="8566" b="10150"/>
          <a:stretch/>
        </p:blipFill>
        <p:spPr>
          <a:xfrm>
            <a:off x="380880" y="1114560"/>
            <a:ext cx="8229600" cy="515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rcRect l="79169" t="10708" r="8333" b="79164"/>
          <a:stretch/>
        </p:blipFill>
        <p:spPr>
          <a:xfrm>
            <a:off x="7162920" y="5556240"/>
            <a:ext cx="1981080" cy="1301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ференцијална дијагноза бола у груди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3408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Дијагноза акутног коронарног синдр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итеријуми Светске здравствене орг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стојање бола у грудима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Verdana"/>
              </a:rPr>
              <a:t>еволутивне промене у ЕКГ-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раст серумских кардијалних марке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066680" y="2133720"/>
          <a:ext cx="2667240" cy="88416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без </a:t>
                      </a:r>
                      <a:r>
                        <a:rPr b="0" lang="en-U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ST</a:t>
                      </a: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 елевациј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4120" y="2133720"/>
          <a:ext cx="2590560" cy="914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са</a:t>
                      </a:r>
                      <a:r>
                        <a:rPr b="0" lang="en-U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 ST </a:t>
                      </a:r>
                      <a:r>
                        <a:rPr b="0" lang="sr-CS" sz="2600" spc="-1" strike="noStrike">
                          <a:solidFill>
                            <a:srgbClr val="dddddd"/>
                          </a:solidFill>
                          <a:latin typeface="Verdana"/>
                        </a:rPr>
                        <a:t>елевациј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" y="3657600"/>
          <a:ext cx="2057400" cy="3808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 non </a:t>
                      </a:r>
                      <a:r>
                        <a:rPr b="0" lang="sl-SI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73" name="Line 20"/>
          <p:cNvSpPr/>
          <p:nvPr/>
        </p:nvSpPr>
        <p:spPr>
          <a:xfrm flipH="1">
            <a:off x="2362320" y="1523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236232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95680" y="1523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655308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5"/>
          <p:cNvSpPr/>
          <p:nvPr/>
        </p:nvSpPr>
        <p:spPr>
          <a:xfrm flipH="1">
            <a:off x="13716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15000" y="3581280"/>
          <a:ext cx="1981080" cy="48744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666880" y="3581280"/>
          <a:ext cx="1676520" cy="48744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182" name="Line 39"/>
          <p:cNvSpPr/>
          <p:nvPr/>
        </p:nvSpPr>
        <p:spPr>
          <a:xfrm>
            <a:off x="13716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40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662940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42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225108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6" name="Picture 43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190476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44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180000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AutoShape 47"/>
          <p:cNvSpPr/>
          <p:nvPr/>
        </p:nvSpPr>
        <p:spPr>
          <a:xfrm>
            <a:off x="6553080" y="5029200"/>
            <a:ext cx="152640" cy="762120"/>
          </a:xfrm>
          <a:prstGeom prst="upArrow">
            <a:avLst>
              <a:gd name="adj1" fmla="val 50000"/>
              <a:gd name="adj2" fmla="val 12482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8120" y="640080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Vrhovac B. et al. Interna medicina. Medicinska naklada, Zagreb 2008;6: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582-59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6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- класифик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905120"/>
            <a:ext cx="87138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EKG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езентација инфаркта миокарда са</a:t>
            </a: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 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елевацијо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08160" y="5257800"/>
            <a:ext cx="138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 мину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756440" y="5257800"/>
            <a:ext cx="190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нута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64680" y="5257800"/>
            <a:ext cx="117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 да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564880" y="5257800"/>
            <a:ext cx="20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ронична еволуциј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0" y="3124080"/>
            <a:ext cx="9144000" cy="1704960"/>
            <a:chOff x="0" y="3124080"/>
            <a:chExt cx="9144000" cy="1704960"/>
          </a:xfrm>
        </p:grpSpPr>
        <p:sp>
          <p:nvSpPr>
            <p:cNvPr id="199" name="AutoShape 10"/>
            <p:cNvSpPr/>
            <p:nvPr/>
          </p:nvSpPr>
          <p:spPr>
            <a:xfrm>
              <a:off x="0" y="3124080"/>
              <a:ext cx="907020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0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3144600"/>
              <a:ext cx="9144000" cy="16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12"/>
            <p:cNvGrpSpPr/>
            <p:nvPr/>
          </p:nvGrpSpPr>
          <p:grpSpPr>
            <a:xfrm>
              <a:off x="2844000" y="3168360"/>
              <a:ext cx="6224040" cy="1459800"/>
              <a:chOff x="2844000" y="3168360"/>
              <a:chExt cx="6224040" cy="1459800"/>
            </a:xfrm>
          </p:grpSpPr>
          <p:sp>
            <p:nvSpPr>
              <p:cNvPr id="202" name="Rectangle 13"/>
              <p:cNvSpPr/>
              <p:nvPr/>
            </p:nvSpPr>
            <p:spPr>
              <a:xfrm>
                <a:off x="2844000" y="3168360"/>
                <a:ext cx="1387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800" spc="-1" strike="noStrike">
                    <a:solidFill>
                      <a:srgbClr val="000000"/>
                    </a:solidFill>
                    <a:latin typeface="Arial"/>
                  </a:rPr>
                  <a:t>елевација </a:t>
                </a:r>
                <a:r>
                  <a:rPr b="0" lang="sl-SI" sz="1800" spc="-1" strike="noStrike">
                    <a:solidFill>
                      <a:srgbClr val="000000"/>
                    </a:solidFill>
                    <a:latin typeface="Verdana"/>
                  </a:rPr>
                  <a:t>ST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5441400" y="4336920"/>
                <a:ext cx="674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q-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зубац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Rectangle 15"/>
              <p:cNvSpPr/>
              <p:nvPr/>
            </p:nvSpPr>
            <p:spPr>
              <a:xfrm>
                <a:off x="6904080" y="4414680"/>
                <a:ext cx="1054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негативан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Rectangle 16"/>
              <p:cNvSpPr/>
              <p:nvPr/>
            </p:nvSpPr>
            <p:spPr>
              <a:xfrm>
                <a:off x="7370280" y="3465360"/>
                <a:ext cx="1697760" cy="10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6" name="Text Box 17"/>
          <p:cNvSpPr/>
          <p:nvPr/>
        </p:nvSpPr>
        <p:spPr>
          <a:xfrm>
            <a:off x="6084720" y="652464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-Clinical Training Sept 20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- класифик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640x480-Disease State movie for PPT presentation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0" y="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Verdana"/>
              </a:rPr>
              <a:t>Атеротромбоза са потпуном оклузијом крвног суда узрокује инфаркт миокарда са 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ST </a:t>
            </a:r>
            <a:r>
              <a:rPr b="0" lang="sr-CS" sz="3000" spc="-1" strike="noStrike">
                <a:solidFill>
                  <a:srgbClr val="ffffff"/>
                </a:solidFill>
                <a:latin typeface="Verdana"/>
              </a:rPr>
              <a:t>елевацијом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sr-Latn-CS" sz="3000" spc="-1" strike="noStrike">
                <a:solidFill>
                  <a:srgbClr val="ffffff"/>
                </a:solidFill>
                <a:latin typeface="Verdana"/>
              </a:rPr>
              <a:t>STEMI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sr-CS" sz="3000" spc="-1" strike="noStrike">
                <a:solidFill>
                  <a:srgbClr val="ffffff"/>
                </a:solidFill>
                <a:latin typeface="Verdana"/>
              </a:rPr>
              <a:t>а са непотпуном оклузијом</a:t>
            </a:r>
            <a:r>
              <a:rPr b="0" lang="sr-Latn-CS" sz="30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sr-Latn-CS" sz="3000" spc="-1" strike="noStrike">
                <a:solidFill>
                  <a:srgbClr val="ffffff"/>
                </a:solidFill>
                <a:latin typeface="Verdana"/>
              </a:rPr>
              <a:t>NSTE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629400" y="5410080"/>
            <a:ext cx="2514600" cy="76212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ddddd"/>
                </a:solidFill>
                <a:latin typeface="Verdana"/>
              </a:rPr>
              <a:t>Q </a:t>
            </a:r>
            <a:r>
              <a:rPr b="1" lang="sr-CS" sz="2400" spc="-1" strike="noStrike">
                <a:solidFill>
                  <a:srgbClr val="dddddd"/>
                </a:solidFill>
                <a:latin typeface="Verdana"/>
              </a:rPr>
              <a:t>инфаркт миокар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600200" y="3276720"/>
            <a:ext cx="3048120" cy="76176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dddddd"/>
                </a:solidFill>
                <a:latin typeface="Verdana"/>
              </a:rPr>
              <a:t>NST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(</a:t>
            </a:r>
            <a:r>
              <a:rPr b="1" lang="sr-CS" sz="1600" spc="-1" strike="noStrike">
                <a:solidFill>
                  <a:srgbClr val="dddddd"/>
                </a:solidFill>
                <a:latin typeface="Verdana"/>
              </a:rPr>
              <a:t>позитиван тропонин</a:t>
            </a: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581280" y="5410080"/>
            <a:ext cx="2895840" cy="76212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ddddd"/>
                </a:solidFill>
                <a:latin typeface="Verdana"/>
              </a:rPr>
              <a:t>Non Q </a:t>
            </a:r>
            <a:r>
              <a:rPr b="1" lang="sr-CS" sz="2400" spc="-1" strike="noStrike">
                <a:solidFill>
                  <a:srgbClr val="dddddd"/>
                </a:solidFill>
                <a:latin typeface="Verdana"/>
              </a:rPr>
              <a:t>инфаркт миокар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562720" y="1905120"/>
            <a:ext cx="2590560" cy="45720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dddddd"/>
                </a:solidFill>
                <a:latin typeface="Verdana"/>
              </a:rPr>
              <a:t>STE – A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1981080"/>
            <a:ext cx="2667240" cy="38124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dddddd"/>
                </a:solidFill>
                <a:latin typeface="Verdana"/>
              </a:rPr>
              <a:t>NSTE – A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28600" y="5410080"/>
            <a:ext cx="3124080" cy="762120"/>
          </a:xfrm>
          <a:prstGeom prst="rect">
            <a:avLst/>
          </a:prstGeom>
          <a:solidFill>
            <a:srgbClr val="a3b2c1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ddddd"/>
                </a:solidFill>
                <a:latin typeface="Verdana"/>
              </a:rPr>
              <a:t>AP non stabil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(</a:t>
            </a:r>
            <a:r>
              <a:rPr b="1" lang="sr-CS" sz="1600" spc="-1" strike="noStrike">
                <a:solidFill>
                  <a:srgbClr val="dddddd"/>
                </a:solidFill>
                <a:latin typeface="Verdana"/>
              </a:rPr>
              <a:t>тропонин референтан</a:t>
            </a:r>
            <a:r>
              <a:rPr b="1" lang="sr-Latn-CS" sz="1600" spc="-1" strike="noStrike">
                <a:solidFill>
                  <a:srgbClr val="dddddd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8"/>
          <p:cNvSpPr/>
          <p:nvPr/>
        </p:nvSpPr>
        <p:spPr>
          <a:xfrm rot="5400000">
            <a:off x="2781000" y="262872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AutoShape 9"/>
          <p:cNvSpPr/>
          <p:nvPr/>
        </p:nvSpPr>
        <p:spPr>
          <a:xfrm rot="5400000">
            <a:off x="-19080" y="3790800"/>
            <a:ext cx="2667240" cy="419040"/>
          </a:xfrm>
          <a:prstGeom prst="rightArrow">
            <a:avLst>
              <a:gd name="adj1" fmla="val 50000"/>
              <a:gd name="adj2" fmla="val 1591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10"/>
          <p:cNvSpPr/>
          <p:nvPr/>
        </p:nvSpPr>
        <p:spPr>
          <a:xfrm rot="5400000">
            <a:off x="6438240" y="3619440"/>
            <a:ext cx="2819520" cy="609480"/>
          </a:xfrm>
          <a:prstGeom prst="rightArrow">
            <a:avLst>
              <a:gd name="adj1" fmla="val 50000"/>
              <a:gd name="adj2" fmla="val 1156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1"/>
          <p:cNvSpPr/>
          <p:nvPr/>
        </p:nvSpPr>
        <p:spPr>
          <a:xfrm rot="1632000">
            <a:off x="4419720" y="4459320"/>
            <a:ext cx="3487680" cy="169920"/>
          </a:xfrm>
          <a:prstGeom prst="rightArrow">
            <a:avLst>
              <a:gd name="adj1" fmla="val 50000"/>
              <a:gd name="adj2" fmla="val 5131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12"/>
          <p:cNvSpPr/>
          <p:nvPr/>
        </p:nvSpPr>
        <p:spPr>
          <a:xfrm rot="5400000">
            <a:off x="4381200" y="3848040"/>
            <a:ext cx="2895480" cy="228600"/>
          </a:xfrm>
          <a:prstGeom prst="rightArrow">
            <a:avLst>
              <a:gd name="adj1" fmla="val 50000"/>
              <a:gd name="adj2" fmla="val 31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13"/>
          <p:cNvSpPr/>
          <p:nvPr/>
        </p:nvSpPr>
        <p:spPr>
          <a:xfrm rot="3628800">
            <a:off x="4185000" y="4507560"/>
            <a:ext cx="1567080" cy="457200"/>
          </a:xfrm>
          <a:prstGeom prst="rightArrow">
            <a:avLst>
              <a:gd name="adj1" fmla="val 50000"/>
              <a:gd name="adj2" fmla="val 856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981080" y="6400800"/>
            <a:ext cx="701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Adaptirano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sr-Latn-C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z A Textbook of Cardiovascular Medicine, AIM, 5th ed., E. Braunwald 1997.</a:t>
            </a:r>
            <a:r>
              <a:rPr b="0" lang="sr-Latn-C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6"/>
          <p:cNvSpPr/>
          <p:nvPr/>
        </p:nvSpPr>
        <p:spPr>
          <a:xfrm flipH="1">
            <a:off x="2437920" y="15238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4495680" y="15238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6553080" y="1523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438280" y="1523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- класифик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мене у акутном коронарном синдром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елевациј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ST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сегмент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≥1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мм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у најмање два блиска од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депресиј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ST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сегмента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≥1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мм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у најмање два блиска од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Негативни исхемијски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T </a:t>
            </a:r>
            <a:r>
              <a:rPr b="0" lang="sr-CS" sz="2000" spc="-1" strike="noStrike">
                <a:solidFill>
                  <a:srgbClr val="cc0000"/>
                </a:solidFill>
                <a:latin typeface="Verdana"/>
              </a:rPr>
              <a:t>таласи са дубином већом од 2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исок тала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еракутна фа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ањење волтаже зупц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ормирање патолошког зупц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ципрочне промене у супротним одводи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5181480" y="6324480"/>
            <a:ext cx="426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руге болести и стања која могу да доведу до промен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ST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гмент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T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а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лућна ембол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лектролитски поремећај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сихијатријска медик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игитали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первентил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пертрофична кардиомиопат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оперикардити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иркулаторни шок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морагија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еп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кутни панкреатити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172200" y="6477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343400" y="630864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nnish Medical Society Duodecim. Differential diagnosis of chest 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in. In: EBM Guidelines. Evidence-Based Medicine]. Helsinki, 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nland: Wiley Interscience. John Wiley &amp; Sons; 2008 May 1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4920" y="914400"/>
            <a:ext cx="8458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Електрокардиографија – диф. дијагно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3408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Дијагноза акутног коронарног синдр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2514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итеријуми Светске здравствене орг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стојање бола у грудима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волутивне промене у ЕКГ-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Verdana"/>
              </a:rPr>
              <a:t>пораст серумских кардијалних маркер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аркери миокардне некро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rcRect l="4166" t="14037" r="4166" b="6802"/>
          <a:stretch/>
        </p:blipFill>
        <p:spPr>
          <a:xfrm>
            <a:off x="609480" y="1828800"/>
            <a:ext cx="7848720" cy="42670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4419720" y="62485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240" y="5715000"/>
            <a:ext cx="864252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алази се на првом месту узрока смртности у групи КВ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20834" t="13014" r="27082" b="9545"/>
          <a:stretch/>
        </p:blipFill>
        <p:spPr>
          <a:xfrm>
            <a:off x="468360" y="1752480"/>
            <a:ext cx="814212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45779" t="54575" r="8333" b="40088"/>
          <a:stretch/>
        </p:blipFill>
        <p:spPr>
          <a:xfrm>
            <a:off x="533520" y="5029200"/>
            <a:ext cx="8135640" cy="57636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6372360" y="1916280"/>
            <a:ext cx="1944720" cy="863280"/>
          </a:xfrm>
          <a:prstGeom prst="ellipse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800600" y="640080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Heart disease and stroke statistics – 2010 update; AH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22093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јединачне вредности срчаног тропонина И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(cTnI)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зетог у време пријем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ају сензитивност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39%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пецифичност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91%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 акутни коронарни синдро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ријско одређивање овог ензима повећава сензитивност н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90-100%</a:t>
            </a:r>
            <a:r>
              <a:rPr b="0" lang="sl-SI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раст тропонина се бележи 3 до 4 сата након некрозе срчаних мишићних ћелиј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62520" y="6080040"/>
            <a:ext cx="51814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dravković-Ćirić S. et al. Markeri ishemije i nekroze miokarda. U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: Ćirić V., Lović B. eds. 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Akutni koronarni sindrom, Niš: Codex, 2008:119-135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Ammann P., Pfisterer M., Fehr T., Rickli H. Raised cardiac troponins. </a:t>
            </a:r>
            <a:r>
              <a:rPr b="0" i="1" lang="sl-SI" sz="1000" spc="-1" strike="noStrike">
                <a:solidFill>
                  <a:srgbClr val="000000"/>
                </a:solidFill>
                <a:latin typeface="Verdana"/>
              </a:rPr>
              <a:t>BMJ 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2004;328:1028-9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аркери миокардне некро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не вредности тропонин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У срчаним болестима или интервенцијама рађеним на срц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операција на срцу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срчана инсуфицијенц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кардиоверзиј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дилатативна кардиомиопат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PCI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хипертрофична кардиомиопат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радиофреквентна абла.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миокардитис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акутни коронарни син.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тахикардије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Током других болести и стањ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сепс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САХ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бубрежна инсуф.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шлог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плућна емболиј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хемиотерапиј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плућна хипертензија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l-SI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sr-CS" sz="1300" spc="-1" strike="noStrike">
                <a:solidFill>
                  <a:srgbClr val="000000"/>
                </a:solidFill>
                <a:latin typeface="Verdana"/>
              </a:rPr>
              <a:t>изразит физички напор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172200" y="62485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mann P</a:t>
            </a:r>
            <a:r>
              <a:rPr b="0" lang="sl-SI" sz="1200" spc="-1" strike="noStrike">
                <a:solidFill>
                  <a:srgbClr val="000000"/>
                </a:solidFill>
                <a:latin typeface="Verdana"/>
              </a:rPr>
              <a:t>. et al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ised cardiac troponins. </a:t>
            </a:r>
            <a:r>
              <a:rPr b="0" i="1" lang="sl-SI" sz="1200" spc="-1" strike="noStrike">
                <a:solidFill>
                  <a:srgbClr val="000000"/>
                </a:solidFill>
                <a:latin typeface="Verdana"/>
              </a:rPr>
              <a:t>BMJ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04;328:1028-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аркери миокардне некро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Анамне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Физикални прегле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Електрокардиографија</a:t>
            </a:r>
            <a:r>
              <a:rPr b="1" lang="sl-SI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Биохемијски маркери</a:t>
            </a:r>
            <a:r>
              <a:rPr b="1" lang="sl-SI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Ехокардиогр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Стрестест</a:t>
            </a:r>
            <a:r>
              <a:rPr b="1" lang="sl-SI" sz="2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Коронарогр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мплетна дијагнос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019920" y="63244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 Guidelines for NSTE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S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;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946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хокардиограф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3" descr="heart-disease-visual-guide-s17-man-having-echocardiogram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а велики значај код болесника са акутним коронарним синдромо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начај постоји и када престане бол у грудима јер се контрактилност још није нормализов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хокардиограм посматра директну последицу исхемије – регионално смањење контрактил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477120" y="615636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946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хокардиограф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19468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ме стрес - тест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3" descr="heart-disease-visual-guide-s14-heart-stress-test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д болесником са могућим АКС-ом и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дијагностичким ЕКГ-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ормалним кардиоспецифичним ензимима у два одвојења мер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ес-ехокардиографија у АКС-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Класа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I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иво доказ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7064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трес - т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477120" y="615636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Ostojić M. Preporuke u preventivnom, dijagnostičkom i terapijskom pristupu bolesnika sa bolom u grudima. Beograd 200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706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нгиограф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NSTE-A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ргентн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ahoma"/>
              </a:rPr>
              <a:t>&lt;2h)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оронарна ангиографија се препоручује код болесника са рефрактерном или рекурентном ангином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дружена са динамичном променом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ST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гмента или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таласа и хемодинамском нестабилношћ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а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ahoma"/>
              </a:rPr>
              <a:t>&lt;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ahoma"/>
              </a:rPr>
              <a:t>24h)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  <a:ea typeface="Tahoma"/>
              </a:rPr>
              <a:t>коронарна ангиографија с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ahoma"/>
              </a:rPr>
              <a:t> PCI ili CABG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  <a:ea typeface="Tahoma"/>
              </a:rPr>
              <a:t>код болесника са средњим или високим ризик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  <a:ea typeface="Tahoma"/>
              </a:rPr>
              <a:t>Елективна код пацијената без поновљених болова у грудима, без знакова срчане слабости, без повишених вредности тропон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94360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C Guidelines for NSTE</a:t>
            </a:r>
            <a:r>
              <a:rPr b="0" lang="sl-SI" sz="1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S</a:t>
            </a:r>
            <a:r>
              <a:rPr b="0" lang="sl-SI" sz="1200" spc="-1" strike="noStrike">
                <a:solidFill>
                  <a:srgbClr val="000000"/>
                </a:solidFill>
                <a:latin typeface="Verdana"/>
              </a:rPr>
              <a:t>;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нутар прва 3 сата од почетка болова обе реперфузионе стратегије имају исту важно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упериорност примарне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CI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односу на тромболитичку терапију клинички је релевантна између 3. и 12. сата од акутног коронарног догађа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имарна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CI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односу на тромболизу значајно смањује могућност можданог удар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пасавајућа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CI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 препоручује након неуспешне тромболиз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781080" y="6400800"/>
            <a:ext cx="53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s Van de Werf,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00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 Guidelines:Management of STE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;ACC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706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нгиограф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STE-A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27084" t="51006" r="24055" b="14076"/>
          <a:stretch/>
        </p:blipFill>
        <p:spPr>
          <a:xfrm>
            <a:off x="304920" y="1600200"/>
            <a:ext cx="8534160" cy="4648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52280" y="9468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едикаментна 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снова коронарне болести је дуготрајни процес атеросклерозе коронарне артер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теросклероза је хронична, инфламаторна, фибропролиферативна болест артерија која се карактерише акумулацијом липида у њиховим зидови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ронарна боле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војна антитромбоцитна терапија АСК-ом и клопидогрелом је стандард у третману пацијената са акутним коронарним синдром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сле акутне фазе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ставак терапије са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г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СК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75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г клопидогрела на дан током 9 до 12 месец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84200" y="94680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нтитромбоцитна 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4127400" y="6566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198680" y="6323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aspi"/>
          <p:cNvPicPr/>
          <p:nvPr/>
        </p:nvPicPr>
        <p:blipFill>
          <a:blip r:embed="rId1"/>
          <a:srcRect l="4706" t="0" r="3062" b="37374"/>
          <a:stretch/>
        </p:blipFill>
        <p:spPr>
          <a:xfrm>
            <a:off x="455760" y="1676520"/>
            <a:ext cx="41130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8" descr="aspi 5"/>
          <p:cNvPicPr/>
          <p:nvPr/>
        </p:nvPicPr>
        <p:blipFill>
          <a:blip r:embed="rId2"/>
          <a:srcRect l="4706" t="3429" r="6355" b="36945"/>
          <a:stretch/>
        </p:blipFill>
        <p:spPr>
          <a:xfrm>
            <a:off x="4572000" y="1676520"/>
            <a:ext cx="43434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 Box 9"/>
          <p:cNvSpPr/>
          <p:nvPr/>
        </p:nvSpPr>
        <p:spPr>
          <a:xfrm>
            <a:off x="685800" y="5867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добар антитромбоцитни ефек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380880" y="914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тест на агрегабилно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5029200" y="5867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лош антитромбоцитни ефек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имењени интравенски првих сати након инфаркта миокарда смањуј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тензитет бо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личину инфар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нат поремећаја рит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ртно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85280" y="94680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127400" y="6566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733920" y="6248520"/>
            <a:ext cx="541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Vasiljević Z. Ishemijske bolest srca i principi lečenja. U: Kažić T. i  Ostojić M., ed. Klinička </a:t>
            </a: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kardiovaskularna farmakologija, IV izdanje, Beograd: Integra, 2004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мењени у току инфаркта миокарда смањуј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еличину инфар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моделов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разит бенефит је забележен код инфаркта миокарда антериорне локализ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имена од првог дана индикована код болесника са инфарктом миокард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61160" y="94680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127400" y="6566760"/>
            <a:ext cx="49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ESC  PCI  Guidelines, AndjuctiveMedications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gmund Silber et al.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33920" y="6172200"/>
            <a:ext cx="541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1.Vasiljević Z. Ishemijske bolest srca i principi lečenja. U: Kažić T. i  Ostojić M., ed. Klinička </a:t>
            </a: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kardiovaskularna farmakologija, IV izdanje, Beograd: Integra, 2004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SC Guidelines for STE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S</a:t>
            </a:r>
            <a:r>
              <a:rPr b="0" lang="sl-SI" sz="1000" spc="-1" strike="noStrike">
                <a:solidFill>
                  <a:srgbClr val="000000"/>
                </a:solidFill>
                <a:latin typeface="Verdana"/>
              </a:rPr>
              <a:t>;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3276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Уместо закључ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eople who survive the acute stage of a heart attack have a chance of illness and death that’s 1.5–15 times higher than that of the general population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urst’s The Heart, Arteries and Veins. 10th ed. New York, NY: McGraw-Hill, 2001: 3–7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34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АТЕРО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МАТО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 локализована акумулација меких депоз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сти и фибрин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 субендотелном слоју артеријског зи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бог кога настаје задебљање, а касније и отврднуће крвног су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АРТЕРИО</a:t>
            </a: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СКЛЕРОЗА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 хронична, дифузна болест артерија коју карактерише абнормално задебљање и отврднуће њихових зид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28600" y="838080"/>
            <a:ext cx="8763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теросклеро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4114800" y="380880"/>
            <a:ext cx="4800600" cy="762120"/>
          </a:xfrm>
          <a:prstGeom prst="downArrowCallout">
            <a:avLst>
              <a:gd name="adj1" fmla="val 52088"/>
              <a:gd name="adj2" fmla="val 157475"/>
              <a:gd name="adj3" fmla="val 14755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АТЕРОГЕНИ РИЗИКОФАКТО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4114800" y="1371600"/>
            <a:ext cx="4800600" cy="685800"/>
          </a:xfrm>
          <a:prstGeom prst="downArrowCallout">
            <a:avLst>
              <a:gd name="adj1" fmla="val 70071"/>
              <a:gd name="adj2" fmla="val 175000"/>
              <a:gd name="adj3" fmla="val 16667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ЕНДОТЕЛНА ДИСФУНК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114800" y="2286000"/>
            <a:ext cx="4800600" cy="762120"/>
          </a:xfrm>
          <a:prstGeom prst="downArrowCallout">
            <a:avLst>
              <a:gd name="adj1" fmla="val 78745"/>
              <a:gd name="adj2" fmla="val 157475"/>
              <a:gd name="adj3" fmla="val 18560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МАСНА МРЉ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114800" y="3200400"/>
            <a:ext cx="4800600" cy="762120"/>
          </a:xfrm>
          <a:prstGeom prst="downArrowCallout">
            <a:avLst>
              <a:gd name="adj1" fmla="val 64571"/>
              <a:gd name="adj2" fmla="val 157475"/>
              <a:gd name="adj3" fmla="val 14583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ТРАНЗИТОРНА Л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4114800" y="4038480"/>
            <a:ext cx="4800600" cy="609840"/>
          </a:xfrm>
          <a:prstGeom prst="downArrowCallout">
            <a:avLst>
              <a:gd name="adj1" fmla="val 94326"/>
              <a:gd name="adj2" fmla="val 196798"/>
              <a:gd name="adj3" fmla="val 22394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СТАБИЛ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114800" y="4876920"/>
            <a:ext cx="4800600" cy="838080"/>
          </a:xfrm>
          <a:prstGeom prst="downArrowCallout">
            <a:avLst>
              <a:gd name="adj1" fmla="val 70441"/>
              <a:gd name="adj2" fmla="val 143202"/>
              <a:gd name="adj3" fmla="val 12500"/>
              <a:gd name="adj4" fmla="val 66667"/>
            </a:avLst>
          </a:prstGeom>
          <a:solidFill>
            <a:srgbClr val="00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НЕСТАБИЛАН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2362320" y="5791320"/>
            <a:ext cx="6553080" cy="838080"/>
          </a:xfrm>
          <a:prstGeom prst="leftArrowCallout">
            <a:avLst>
              <a:gd name="adj1" fmla="val 37124"/>
              <a:gd name="adj2" fmla="val 50000"/>
              <a:gd name="adj3" fmla="val 136944"/>
              <a:gd name="adj4" fmla="val 72252"/>
            </a:avLst>
          </a:prstGeom>
          <a:solidFill>
            <a:srgbClr val="0000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КОМПЛИКОВАНИ ПЛ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0" y="2743200"/>
            <a:ext cx="3886200" cy="3809880"/>
          </a:xfrm>
          <a:prstGeom prst="irregularSeal2">
            <a:avLst/>
          </a:prstGeom>
          <a:solidFill>
            <a:srgbClr val="0000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АКУТ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КОРОНАРНИ</a:t>
            </a:r>
            <a:r>
              <a:rPr b="1" lang="en-US" sz="2400" spc="-1" strike="noStrike">
                <a:solidFill>
                  <a:srgbClr val="cc0000"/>
                </a:solidFill>
                <a:latin typeface="Times Y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Times YU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28600" y="457200"/>
            <a:ext cx="3733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теросклеро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4724280" cy="441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оменљи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мајор</a:t>
            </a:r>
            <a:r>
              <a:rPr b="0" lang="sl-SI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хипертензиј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дуван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0000"/>
                </a:solidFill>
                <a:latin typeface="Verdana"/>
              </a:rPr>
              <a:t>дислипидемиј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Verdana"/>
              </a:rPr>
              <a:t>повишен ниво укупног холестеро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Verdana"/>
              </a:rPr>
              <a:t>повишен ниво ЛДЛ-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Verdana"/>
              </a:rPr>
              <a:t>низак ниво ХДЛ-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предиспонирајући</a:t>
            </a:r>
            <a:r>
              <a:rPr b="0" lang="sl-SI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гојазност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(BMI ≥ 30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кг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m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физичка неактивнос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ff0000"/>
                </a:solidFill>
                <a:latin typeface="Verdana"/>
              </a:rPr>
              <a:t>повишени триглицерид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етерана употреба алокохо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тромбогени и инфламат. фактор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292720" y="2666880"/>
            <a:ext cx="3352680" cy="198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епроменљи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године живота</a:t>
            </a:r>
            <a:r>
              <a:rPr b="1" lang="sr-Latn-C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породично оптерећење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400800"/>
            <a:ext cx="48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Pyorala K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t al. </a:t>
            </a:r>
            <a:r>
              <a:rPr b="0" i="1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ur</a:t>
            </a:r>
            <a:r>
              <a:rPr b="0" i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Heart J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1994;15:1300–31</a:t>
            </a: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 Ostojić M. &amp; Kanjuh V. </a:t>
            </a:r>
            <a:r>
              <a:rPr b="0" i="1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U Kažić T. &amp; Ostojić M. (ed) </a:t>
            </a:r>
            <a:r>
              <a:rPr b="0" lang="sl-SI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2004: 149-7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352680" y="4191120"/>
            <a:ext cx="3048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</a:t>
            </a:r>
            <a:r>
              <a:rPr b="1" lang="sl-SI" sz="1800" spc="-1" strike="noStrike">
                <a:solidFill>
                  <a:srgbClr val="000000"/>
                </a:solidFill>
                <a:latin typeface="Verdana"/>
                <a:ea typeface="Arial"/>
              </a:rPr>
              <a:t>abe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melli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28600" y="838080"/>
            <a:ext cx="8763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Атерогени фактори риз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66680" y="1828800"/>
            <a:ext cx="691380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endo_normal1"/>
          <p:cNvPicPr/>
          <p:nvPr/>
        </p:nvPicPr>
        <p:blipFill>
          <a:blip r:embed="rId1"/>
          <a:stretch/>
        </p:blipFill>
        <p:spPr>
          <a:xfrm>
            <a:off x="1206360" y="1905120"/>
            <a:ext cx="6512040" cy="41115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228600" y="838080"/>
            <a:ext cx="8763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ндотел крвних суд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иброзни пл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иброзна капа покрива смесу леукоц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липида и детритус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што може да створи некротично језгр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Лезија се шири због континуиране адхезије и уласка леукоц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 основи вероватноће развоја компликованог плака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абилан плак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  компликована л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стабилан плак              компликована л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038480" y="54100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чест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80988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рет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50532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809880" y="5715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3:37:31Z</dcterms:created>
  <dc:creator>VLADA</dc:creator>
  <dc:description/>
  <dc:language>en-US</dc:language>
  <cp:lastModifiedBy>Marina</cp:lastModifiedBy>
  <dcterms:modified xsi:type="dcterms:W3CDTF">2020-10-01T18:56:01Z</dcterms:modified>
  <cp:revision>276</cp:revision>
  <dc:subject/>
  <dc:title>Ishemijska bolest srca, definicija, uzrok, podela</dc:title>
</cp:coreProperties>
</file>